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6F4-5614-4450-AC63-D989F9957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E9B-1510-4923-A11A-C9BE8FA4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13D-C9B9-4C9E-84AB-C96B7EE5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690-C809-4163-921A-66F04C9B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m groups based on connections that you make as you wander around sharing your c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 prepared to explain how your group formed their grou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oes anyone want to swi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the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the math content difficulty with part to part and part to whole that might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9992-A154-40A5-96CB-B05B0249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ulti strategy multi so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90E3-E075-4FDE-919B-5D7A635E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irs and small groups convince the whole group that their solution makes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D06-0DB0-46BA-B73E-981F0DA8D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A142-1DC3-454D-B023-FEC9F262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361-5590-466D-B809-FEF6DDEB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2EF-7A86-4736-A283-D424A3B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117-C23E-4565-960A-DC06CF8B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7D6-6963-4E71-80FD-2B6C4088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9A19-854F-4FDE-8254-2C7A9A07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8981-5D0F-4C9F-A141-C48ADB3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EF34-53C3-4D25-8AAD-3F2E045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EFD-F6F8-4AE3-8FE3-EA03CFA5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7AA8-CE83-4974-9BE5-59FE0D00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E526-71F3-4138-B1A7-20C8480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3826-682B-4585-8374-A73FE7D3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04C-9A78-442E-9B35-B31DA8D6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00E-ACAF-480D-BE16-448990A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31D-DA7D-4A0B-B445-2940BC8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C89A-CFA5-4718-9F43-AD5AAD9D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391C-1502-4288-B68F-D032D4D2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81F5-5589-49F8-B7E5-09BDDF9B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F20-8E06-4C4B-9417-582A54E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344-6F6A-499F-BB8E-9BB763F1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F51-C9A6-4F38-BFE6-7AFD3BC3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8B5-AD37-4229-AC6D-D8C208B0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CB6-CE53-47EE-B68D-E6DC84C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FCC-87B8-4B6A-892A-F96A9DB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C77-8071-4C20-9A97-0D21FA4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837-8291-432E-9C42-74F16F2CAFE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E59-4C03-4E90-AE27-CD5F0E11488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ades 7/8 Breakout Session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reakout Session goal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ience a three-part lesson based on an ope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to develop understandings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strategies for opening clos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Three Part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cc33"/>
                </a:solidFill>
                <a:latin typeface="Arial"/>
              </a:rPr>
              <a:t>Minds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cc33"/>
                </a:solidFill>
                <a:latin typeface="Arial"/>
              </a:rPr>
              <a:t>making connections in proportional reason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olve an open problem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vince a skeptic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Arial"/>
              </a:rPr>
              <a:t>Consoli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reflect on open tas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at connections can you mak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al strategy –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Process 3"/>
          <p:cNvSpPr/>
          <p:nvPr/>
        </p:nvSpPr>
        <p:spPr>
          <a:xfrm>
            <a:off x="357120" y="928800"/>
            <a:ext cx="7858080" cy="5429160"/>
          </a:xfrm>
          <a:prstGeom prst="flowChartProcess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olve the question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five fractions that are not equivalent and that are greater than ½ and less than ¾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how you know that your fractions meet the criteria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 variety of models and representation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vince a skeptic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five fractions that are greater than ½ and less than ¾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how you know that your fractions meet the criteria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 variety of models and representation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030a0"/>
                </a:solidFill>
                <a:latin typeface="Arial"/>
              </a:rPr>
              <a:t>Paper Pas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pond to the prompt on your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what others wrote – add comments or clarify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icture Book Favourit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9T16:55:18Z</dcterms:modified>
  <cp:revision>174</cp:revision>
  <dc:subject/>
  <dc:title>Slide 1</dc:title>
</cp:coreProperties>
</file>